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38F7-F92B-48D3-B593-CBC6FCA7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6ED1-3987-4B42-972C-683AE483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FE56-8921-4E8C-B6AA-36AA53EF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A1A1-DE91-49E1-BC82-F691FF94F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7A3A-B5E2-4B02-934B-CC3A3AD3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AAD1-286A-427A-B8BF-EB26A3E8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6A61-336A-4795-9427-DD245435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345A-9190-4FC4-B13D-64427E79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5A02-79C3-4321-88E1-DB305110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C970-B99B-46AF-9323-0B3B9DBF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82A0-16CC-4365-AA65-0C9936D8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CED3-8E1F-43E4-84FE-EE2051CA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1D07-0C5C-4401-8DB8-FE38A9093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2.jpeg"/><Relationship Id="rId9" Type="http://schemas.openxmlformats.org/officeDocument/2006/relationships/image" Target="../media/image6.jpeg"/><Relationship Id="rId10" Type="http://schemas.openxmlformats.org/officeDocument/2006/relationships/image" Target="../media/image3.jpeg"/><Relationship Id="rId11" Type="http://schemas.openxmlformats.org/officeDocument/2006/relationships/image" Target="../media/image6.jpeg"/><Relationship Id="rId12" Type="http://schemas.openxmlformats.org/officeDocument/2006/relationships/image" Target="../media/image3.jpeg"/><Relationship Id="rId13" Type="http://schemas.openxmlformats.org/officeDocument/2006/relationships/image" Target="../media/image6.jpeg"/><Relationship Id="rId1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image" Target="../media/image2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2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ydia Gr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moving back to the country!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ydia Grace Fi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Lydia Grace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ydia Grace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t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, 19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ong a dirt road where the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e many garden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58672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58672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nd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p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moving back to the country!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 11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66438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cle J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90920" y="31240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 to Mama, Papa, and Grandma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oday is the day I make Uncle Jim smile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y 4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38098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 to Grandma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se city people have given me a new nickname; they call me the gardene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27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4956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 to Mama, Papa, and Grandma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hanks for the package of plants from home! Emma laughed when the dirt came out of the packag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7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51814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 to Grandma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oday is one of those days that I remember you saying. “April showers bring May flowers.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27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dia Grace to Mama, Papa, and Grandma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have found a new place in the city; it’s on the top of Uncle Jim’s building. The view is so beautiful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ch 5, 19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5334120"/>
            <a:ext cx="484200" cy="533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52280" y="45720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5800" y="5334120"/>
            <a:ext cx="466560" cy="533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219320" y="6095880"/>
            <a:ext cx="474480" cy="533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219320" y="5334120"/>
            <a:ext cx="417240" cy="538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152280" y="6095880"/>
            <a:ext cx="405000" cy="557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60948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2133720" y="2514600"/>
            <a:ext cx="466560" cy="533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2133720" y="3124080"/>
            <a:ext cx="457200" cy="557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2133720" y="3809880"/>
            <a:ext cx="466560" cy="533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2133720" y="4495680"/>
            <a:ext cx="457200" cy="557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2133720" y="5181480"/>
            <a:ext cx="46656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2133720" y="5867280"/>
            <a:ext cx="4572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ydia Gr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moving back to the country!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ydia Grace Fi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Lydia Grace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Lydia Grace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581280"/>
            <a:ext cx="160020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1981080"/>
            <a:ext cx="312408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Coun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Fe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pril 1, 19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long a dirt r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i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3200400"/>
            <a:ext cx="449568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Gardening, Kneading Bread, Helping at the Bak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Gardening, Playing with Otis, Making Uncle Jim sm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Glenn Miller, Larry Clinton, Kate Sm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“Seventh Heaven“, “The King of Kings”, “Power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opeye, The Three Stooges, The Looney Tu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“The Gardener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541008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Coun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en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6172200"/>
            <a:ext cx="91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o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380 Way in the Country La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(865) GAR-DE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52280" y="533520"/>
            <a:ext cx="1600200" cy="1828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unt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, 19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ong a dirt road where the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e many garden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52280" y="53910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52280" y="6095880"/>
            <a:ext cx="685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ydia Grace Fi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752480"/>
            <a:ext cx="7467480" cy="289584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52388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Lydia Gra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472428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ydia Grace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b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Count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6324480"/>
            <a:ext cx="68580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C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ydia Gr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moving back to the country!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52280" y="457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762120" y="5105520"/>
            <a:ext cx="1218960" cy="1066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2133720" y="5105520"/>
            <a:ext cx="1218960" cy="1066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3657600" y="5105520"/>
            <a:ext cx="990720" cy="1066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6477120" y="1828800"/>
            <a:ext cx="1447560" cy="17524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838080" y="1828800"/>
            <a:ext cx="1981440" cy="1314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3048120" y="1828800"/>
            <a:ext cx="1523880" cy="1496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9"/>
          <a:stretch/>
        </p:blipFill>
        <p:spPr>
          <a:xfrm>
            <a:off x="4800600" y="18288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0"/>
          <a:stretch/>
        </p:blipFill>
        <p:spPr>
          <a:xfrm>
            <a:off x="990720" y="3200400"/>
            <a:ext cx="160020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Owner</cp:lastModifiedBy>
  <dcterms:modified xsi:type="dcterms:W3CDTF">2012-04-24T20:41:43Z</dcterms:modified>
  <cp:revision>38</cp:revision>
  <dc:subject/>
  <dc:title>Profile</dc:title>
</cp:coreProperties>
</file>