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7C4B-70FE-4544-8840-BA1A1BDD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FC2A-93C4-4A3A-8BD5-5CF37943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C7A-82F5-46C3-B6C2-61D77D27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E951-CBAC-4DBF-9585-299FF5D7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C7B3-6C1E-4B83-BE43-0699CD97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4CCE-4B0A-42E4-86E3-180D9861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934-CD26-4F46-ABED-4EB48418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7014-1149-4EB1-A5C4-D9F09456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3B01-AFD0-40DE-8AA1-9DB46F2F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0DD4-70BD-4854-BFD1-12B9AC3B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035-02F0-4FBA-9823-CBE2A016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E13-74B4-40CC-A779-8D7C97BD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EE6F-DBAF-48DF-926A-4DE90CF64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2.jpeg"/><Relationship Id="rId9" Type="http://schemas.openxmlformats.org/officeDocument/2006/relationships/image" Target="../media/image6.jpeg"/><Relationship Id="rId10" Type="http://schemas.openxmlformats.org/officeDocument/2006/relationships/image" Target="../media/image3.jpeg"/><Relationship Id="rId11" Type="http://schemas.openxmlformats.org/officeDocument/2006/relationships/image" Target="../media/image6.jpeg"/><Relationship Id="rId12" Type="http://schemas.openxmlformats.org/officeDocument/2006/relationships/image" Target="../media/image3.jpeg"/><Relationship Id="rId13" Type="http://schemas.openxmlformats.org/officeDocument/2006/relationships/image" Target="../media/image6.jpeg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2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ydia Grace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ydia Grac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ong a dirt road where the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many garde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8672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867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nd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p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11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66438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cle J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31240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day is the day I make Uncle Jim smil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4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3809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Grandma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se city people have given me a new nickname; they call me the gardene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4956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hanks for the package of plants from home! Emma laughed when the dirt came out of the packag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51814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day is one of those days that I remember you saying. “April showers bring May flowers.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have found a new place in the city; it’s on the top of Uncle Jim’s building. The view is so beautiful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5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5334120"/>
            <a:ext cx="484200" cy="533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5800" y="5334120"/>
            <a:ext cx="466560" cy="533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19320" y="6095880"/>
            <a:ext cx="47448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219320" y="5334120"/>
            <a:ext cx="417240" cy="538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52280" y="6095880"/>
            <a:ext cx="405000" cy="557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6094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2133720" y="251460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2133720" y="3124080"/>
            <a:ext cx="457200" cy="55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2133720" y="380988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2133720" y="4495680"/>
            <a:ext cx="457200" cy="557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2133720" y="518148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2133720" y="5867280"/>
            <a:ext cx="4572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ydia Grace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ydia Grac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581280"/>
            <a:ext cx="160020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198108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long a dirt r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Gardening, Kneading Bread, Helping at the Bak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Gardening, Playing with Otis, Making Uncle Jim sm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Glenn Miller, Larry Clinton, Kate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“Seventh Heaven“, “The King of Kings”, “Power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opeye, The Three Stooges, The Looney Tu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“The Gardener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41008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en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6172200"/>
            <a:ext cx="91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o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380 Way in the Country L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(865) GAR-DE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52280" y="533520"/>
            <a:ext cx="1600200" cy="1828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ong a dirt road where the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many garde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52280" y="53910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52280" y="60958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752480"/>
            <a:ext cx="7467480" cy="289584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5238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Lydia Gra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72428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ydia Grace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6324480"/>
            <a:ext cx="6858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62120" y="510552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133720" y="510552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3657600" y="5105520"/>
            <a:ext cx="990720" cy="1066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6477120" y="1828800"/>
            <a:ext cx="1447560" cy="1752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838080" y="1828800"/>
            <a:ext cx="1981440" cy="1314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3048120" y="1828800"/>
            <a:ext cx="1523880" cy="1496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4800600" y="18288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990720" y="3200400"/>
            <a:ext cx="16002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Owner</cp:lastModifiedBy>
  <dcterms:modified xsi:type="dcterms:W3CDTF">2012-04-24T20:41:43Z</dcterms:modified>
  <cp:revision>38</cp:revision>
  <dc:subject/>
  <dc:title>Profile</dc:title>
</cp:coreProperties>
</file>