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695-B6F5-464D-A9D0-18D81772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1A7-5E3A-432F-ABB0-F42B3853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E61-2960-4EDF-841C-D241D8C0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3EE-5263-4EC8-979A-0F835C99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A6E-5178-43E3-883F-EF2F7FFF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194-0391-4748-BD71-11190F4A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75D-E41A-4CAA-80A0-838CAC5B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39C3-43E0-4DA6-89C5-288F131B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CAA-5CC7-49BE-BF97-16FA3914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ACBA-0073-41C6-9A5C-D76BC814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42C-FC05-418E-B92D-E961E23D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A67-C3EE-4951-8B1A-78FB107C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814D-EBEB-4347-9A91-2A9FDB8F3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image" Target="../media/image6.jpeg"/><Relationship Id="rId12" Type="http://schemas.openxmlformats.org/officeDocument/2006/relationships/image" Target="../media/image3.jpe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867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11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6643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cle J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3124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the day I make Uncle Jim smil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4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3809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se city people have given me a new nickname; they call me the gardene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4956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anks for the package of plants from home! Emma laughed when the dirt came out of the packag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51814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one of those days that I remember you saying. “April showers bring May flowers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have found a new place in the city; it’s on the top of Uncle Jim’s building. The view is so beautifu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5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484200" cy="533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5800" y="5334120"/>
            <a:ext cx="466560" cy="53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19320" y="6095880"/>
            <a:ext cx="47448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219320" y="5334120"/>
            <a:ext cx="417240" cy="53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52280" y="6095880"/>
            <a:ext cx="405000" cy="55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094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133720" y="251460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2133720" y="31240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2133720" y="38098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2133720" y="44956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2133720" y="51814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2133720" y="5867280"/>
            <a:ext cx="4572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581280"/>
            <a:ext cx="160020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198108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long a dirt r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Gardening, Kneading Bread, Helping at the Bak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Gardening, Playing with Otis, Making Uncle Jim sm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Glenn Miller, Larry Clinton, Kate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“Seventh Heaven“, “The King of Kings”, “Pow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opeye, The Three Stooges, The Looney Tu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“The Garden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41008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en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6172200"/>
            <a:ext cx="9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o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380 Way in the Country L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(865) GAR-D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52280" y="53910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60958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752480"/>
            <a:ext cx="7467480" cy="289584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5238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ydia Gra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7242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ydia Grac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6324480"/>
            <a:ext cx="6858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621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1337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657600" y="5105520"/>
            <a:ext cx="99072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6477120" y="1828800"/>
            <a:ext cx="144756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838080" y="1828800"/>
            <a:ext cx="1981440" cy="1314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048120" y="1828800"/>
            <a:ext cx="1523880" cy="1496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4800600" y="18288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990720" y="3200400"/>
            <a:ext cx="16002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Owner</cp:lastModifiedBy>
  <dcterms:modified xsi:type="dcterms:W3CDTF">2012-04-24T20:41:43Z</dcterms:modified>
  <cp:revision>38</cp:revision>
  <dc:subject/>
  <dc:title>Profile</dc:title>
</cp:coreProperties>
</file>